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4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bsummerton@kis.or.kr" TargetMode="External"/><Relationship Id="rId2" Type="http://schemas.openxmlformats.org/officeDocument/2006/relationships/hyperlink" Target="mailto:bsummerton@kis.or.kr" TargetMode="External"/><Relationship Id="rId3" Type="http://schemas.openxmlformats.org/officeDocument/2006/relationships/hyperlink" Target="http://thefishbowl.phoenix.wikispaces.net/PowerSchoolforParents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4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owerSchool Parent Portal and iOS App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ntroducing the Single Sign On Accoun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9918720" y="6553080"/>
            <a:ext cx="1797120" cy="18162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" descr=""/>
          <p:cNvPicPr/>
          <p:nvPr/>
        </p:nvPicPr>
        <p:blipFill>
          <a:blip r:embed="rId2"/>
          <a:stretch/>
        </p:blipFill>
        <p:spPr>
          <a:xfrm>
            <a:off x="9929880" y="6564240"/>
            <a:ext cx="1778040" cy="17906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29" name="Picture 5" descr=""/>
          <p:cNvPicPr/>
          <p:nvPr/>
        </p:nvPicPr>
        <p:blipFill>
          <a:blip r:embed="rId3"/>
          <a:stretch/>
        </p:blipFill>
        <p:spPr>
          <a:xfrm>
            <a:off x="7912080" y="6578640"/>
            <a:ext cx="1778040" cy="17780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30" name="Picture 6" descr=""/>
          <p:cNvPicPr/>
          <p:nvPr/>
        </p:nvPicPr>
        <p:blipFill>
          <a:blip r:embed="rId4"/>
          <a:stretch/>
        </p:blipFill>
        <p:spPr>
          <a:xfrm>
            <a:off x="5956200" y="6491160"/>
            <a:ext cx="1727280" cy="21067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" descr=""/>
          <p:cNvPicPr/>
          <p:nvPr/>
        </p:nvPicPr>
        <p:blipFill>
          <a:blip r:embed="rId1"/>
          <a:stretch/>
        </p:blipFill>
        <p:spPr>
          <a:xfrm>
            <a:off x="723960" y="1168560"/>
            <a:ext cx="10947240" cy="69721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77" name="Rectangle 2"/>
          <p:cNvSpPr/>
          <p:nvPr/>
        </p:nvSpPr>
        <p:spPr>
          <a:xfrm>
            <a:off x="1104840" y="4241880"/>
            <a:ext cx="2844720" cy="4114800"/>
          </a:xfrm>
          <a:prstGeom prst="rect">
            <a:avLst/>
          </a:prstGeom>
          <a:noFill/>
          <a:ln w="127080">
            <a:solidFill>
              <a:srgbClr val="d90b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82584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owerSchool for Parents App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11150640" y="8001000"/>
            <a:ext cx="901800" cy="9111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80" name="Picture 3" descr=""/>
          <p:cNvPicPr/>
          <p:nvPr/>
        </p:nvPicPr>
        <p:blipFill>
          <a:blip r:embed="rId2"/>
          <a:stretch/>
        </p:blipFill>
        <p:spPr>
          <a:xfrm>
            <a:off x="9898200" y="8010360"/>
            <a:ext cx="927000" cy="9273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81" name="Picture 4" descr=""/>
          <p:cNvPicPr/>
          <p:nvPr/>
        </p:nvPicPr>
        <p:blipFill>
          <a:blip r:embed="rId3"/>
          <a:stretch/>
        </p:blipFill>
        <p:spPr>
          <a:xfrm>
            <a:off x="8650440" y="7794720"/>
            <a:ext cx="1083960" cy="13208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82" name="Mac HDD 3:Users:bsummerton:Desktop:Filing:PowerSchool for Parents Presentation.ppt_media:PowerSchool for Parents and Students-2.mov" descr="/Users/bsummerton/Desktop/Filing/PowerSchool for Parents Presentation.ppt_media/PowerSchool for Parents and Students-2.mov"/>
          <p:cNvPicPr/>
          <p:nvPr/>
        </p:nvPicPr>
        <p:blipFill>
          <a:blip r:embed="rId4"/>
          <a:stretch/>
        </p:blipFill>
        <p:spPr>
          <a:xfrm>
            <a:off x="558720" y="2895480"/>
            <a:ext cx="8572680" cy="482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5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-888840" y="393480"/>
            <a:ext cx="1046448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etting Up the PowerSchool App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4" name="Mac HDD 3:Users:bsummerton:Desktop:Filing:PowerSchool for Parents Presentation.ppt_media:How to Configure Your PowerSchool App-2.mov" descr="/Users/bsummerton/Desktop/Filing/PowerSchool for Parents Presentation.ppt_media/How to Configure Your PowerSchool App-2.mov"/>
          <p:cNvPicPr/>
          <p:nvPr/>
        </p:nvPicPr>
        <p:blipFill>
          <a:blip r:embed="rId1"/>
          <a:stretch/>
        </p:blipFill>
        <p:spPr>
          <a:xfrm>
            <a:off x="279360" y="3035160"/>
            <a:ext cx="8128080" cy="4572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"/>
          <p:cNvPicPr/>
          <p:nvPr/>
        </p:nvPicPr>
        <p:blipFill>
          <a:blip r:embed="rId2"/>
          <a:stretch/>
        </p:blipFill>
        <p:spPr>
          <a:xfrm>
            <a:off x="10953720" y="7191360"/>
            <a:ext cx="901800" cy="9111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9701280" y="7201080"/>
            <a:ext cx="927000" cy="9270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87" name="Picture 5" descr=""/>
          <p:cNvPicPr/>
          <p:nvPr/>
        </p:nvPicPr>
        <p:blipFill>
          <a:blip r:embed="rId4"/>
          <a:stretch/>
        </p:blipFill>
        <p:spPr>
          <a:xfrm>
            <a:off x="8453520" y="6985080"/>
            <a:ext cx="1084320" cy="13208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ore Information?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69720" y="18410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75420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54200" indent="-5140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mail: 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bsummerton@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kis.or.k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54200" indent="-5140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isit: 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http://thefishbowl.phoenix.wikispaces.net/PowerSchoolforParents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nd view all this information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54200" indent="-5140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You can even download this presentation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0" name="Picture 4" descr=""/>
          <p:cNvPicPr/>
          <p:nvPr/>
        </p:nvPicPr>
        <p:blipFill>
          <a:blip r:embed="rId4"/>
          <a:stretch/>
        </p:blipFill>
        <p:spPr>
          <a:xfrm>
            <a:off x="10752120" y="7394400"/>
            <a:ext cx="963720" cy="9748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91" name="Picture 5" descr=""/>
          <p:cNvPicPr/>
          <p:nvPr/>
        </p:nvPicPr>
        <p:blipFill>
          <a:blip r:embed="rId5"/>
          <a:stretch/>
        </p:blipFill>
        <p:spPr>
          <a:xfrm>
            <a:off x="9550440" y="7391520"/>
            <a:ext cx="1054080" cy="9540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92" name="Picture 6" descr=""/>
          <p:cNvPicPr/>
          <p:nvPr/>
        </p:nvPicPr>
        <p:blipFill>
          <a:blip r:embed="rId6"/>
          <a:stretch/>
        </p:blipFill>
        <p:spPr>
          <a:xfrm>
            <a:off x="8255160" y="7315200"/>
            <a:ext cx="927000" cy="1130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-12708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What is the Parent Account?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86960" y="1676160"/>
            <a:ext cx="10642680" cy="981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38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urrently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You have an ACCESS ID and ACCESS PASSWORD for each of your enrolled children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38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Verdana"/>
              </a:rPr>
              <a:t>Coming Soon!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You will have a Parent ACCOUNT. Date to be announced during mid-November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nce KIS transfers to the use of Parent Single Sign In Accounts, existing Access IDs and Passwords will no longer work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dvantage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Update all your information from your iOS device or home computer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ee all your children’s grad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ceive daily up-to-date school announcements and events using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ne username and password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38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38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11279160" y="7873920"/>
            <a:ext cx="804960" cy="8128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34" name="Picture 4" descr=""/>
          <p:cNvPicPr/>
          <p:nvPr/>
        </p:nvPicPr>
        <p:blipFill>
          <a:blip r:embed="rId2"/>
          <a:stretch/>
        </p:blipFill>
        <p:spPr>
          <a:xfrm>
            <a:off x="10234440" y="7886880"/>
            <a:ext cx="774720" cy="7743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35" name="Picture 5" descr=""/>
          <p:cNvPicPr/>
          <p:nvPr/>
        </p:nvPicPr>
        <p:blipFill>
          <a:blip r:embed="rId3"/>
          <a:stretch/>
        </p:blipFill>
        <p:spPr>
          <a:xfrm>
            <a:off x="9271080" y="7846920"/>
            <a:ext cx="698400" cy="8524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155240" y="21715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uring late November/or during December (Specific date to be announced), KIS will be switching all parent access to Single-Sign On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ll parents will be required to create their new Parent Account when the switch occurs to access their children’s information and grades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45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1" descr=""/>
          <p:cNvPicPr/>
          <p:nvPr/>
        </p:nvPicPr>
        <p:blipFill>
          <a:blip r:embed="rId1"/>
          <a:stretch/>
        </p:blipFill>
        <p:spPr>
          <a:xfrm>
            <a:off x="8267760" y="3683160"/>
            <a:ext cx="1778040" cy="177768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2"/>
          <p:cNvSpPr/>
          <p:nvPr/>
        </p:nvSpPr>
        <p:spPr>
          <a:xfrm>
            <a:off x="203040" y="4032360"/>
            <a:ext cx="501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Individual Access ID and Password for each child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Line 3"/>
          <p:cNvSpPr/>
          <p:nvPr/>
        </p:nvSpPr>
        <p:spPr>
          <a:xfrm flipH="1">
            <a:off x="5382720" y="4602240"/>
            <a:ext cx="2575080" cy="7920"/>
          </a:xfrm>
          <a:prstGeom prst="line">
            <a:avLst/>
          </a:prstGeom>
          <a:ln w="127080">
            <a:solidFill>
              <a:srgbClr val="0044fe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6460200" y="2703600"/>
            <a:ext cx="5380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One (1) Parent ACCOUN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536520" y="5891400"/>
            <a:ext cx="5229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All Children with 1 log-i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7596360" y="6780240"/>
            <a:ext cx="3109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Mac comput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7024680" y="7516800"/>
            <a:ext cx="4252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Windows Comput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5942880" y="8253360"/>
            <a:ext cx="6415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iOS (iPad, iPhone, iPod Tou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9"/>
          <p:cNvSpPr/>
          <p:nvPr/>
        </p:nvSpPr>
        <p:spPr>
          <a:xfrm>
            <a:off x="1518840" y="1146600"/>
            <a:ext cx="2387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2008-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no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Rectangle 10"/>
          <p:cNvSpPr/>
          <p:nvPr/>
        </p:nvSpPr>
        <p:spPr>
          <a:xfrm>
            <a:off x="5295960" y="793800"/>
            <a:ext cx="77086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ming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 in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November/December 201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ill Sans"/>
              </a:rPr>
              <a:t>The New Parent Account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76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KIS needs to create a New Parent Account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76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is is different to the current Access ID and Access Password that you currently use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76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Your Parent Account will enable you to link up all your enrolled children and view their progress through the PowerSchool Parent Portal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9918720" y="6553080"/>
            <a:ext cx="1797120" cy="18162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"/>
          <p:cNvPicPr/>
          <p:nvPr/>
        </p:nvPicPr>
        <p:blipFill>
          <a:blip r:embed="rId2"/>
          <a:stretch/>
        </p:blipFill>
        <p:spPr>
          <a:xfrm>
            <a:off x="9918720" y="6553080"/>
            <a:ext cx="1797120" cy="18162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51" name="Picture 5" descr=""/>
          <p:cNvPicPr/>
          <p:nvPr/>
        </p:nvPicPr>
        <p:blipFill>
          <a:blip r:embed="rId3"/>
          <a:stretch/>
        </p:blipFill>
        <p:spPr>
          <a:xfrm>
            <a:off x="7912080" y="6578640"/>
            <a:ext cx="1778040" cy="17780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52" name="Picture 6" descr=""/>
          <p:cNvPicPr/>
          <p:nvPr/>
        </p:nvPicPr>
        <p:blipFill>
          <a:blip r:embed="rId4"/>
          <a:stretch/>
        </p:blipFill>
        <p:spPr>
          <a:xfrm>
            <a:off x="5956200" y="6491160"/>
            <a:ext cx="1727280" cy="21067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gister your information with KI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9918720" y="6553080"/>
            <a:ext cx="1797120" cy="18162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2"/>
          <a:stretch/>
        </p:blipFill>
        <p:spPr>
          <a:xfrm>
            <a:off x="863640" y="2057400"/>
            <a:ext cx="7574040" cy="50418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3"/>
          <a:stretch/>
        </p:blipFill>
        <p:spPr>
          <a:xfrm>
            <a:off x="10922040" y="7709040"/>
            <a:ext cx="1797120" cy="18158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57" name="Picture 5" descr=""/>
          <p:cNvPicPr/>
          <p:nvPr/>
        </p:nvPicPr>
        <p:blipFill>
          <a:blip r:embed="rId4"/>
          <a:stretch/>
        </p:blipFill>
        <p:spPr>
          <a:xfrm>
            <a:off x="8915400" y="7734240"/>
            <a:ext cx="1778040" cy="17780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58" name="Picture 6" descr=""/>
          <p:cNvPicPr/>
          <p:nvPr/>
        </p:nvPicPr>
        <p:blipFill>
          <a:blip r:embed="rId5"/>
          <a:stretch/>
        </p:blipFill>
        <p:spPr>
          <a:xfrm>
            <a:off x="6959520" y="7647120"/>
            <a:ext cx="1727280" cy="21063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KIS sends confirmation of your Accoun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lease be patient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very family needs to be setup individually, which takes time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tretch/>
        </p:blipFill>
        <p:spPr>
          <a:xfrm>
            <a:off x="9918720" y="6553080"/>
            <a:ext cx="1797120" cy="18162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tretch/>
        </p:blipFill>
        <p:spPr>
          <a:xfrm>
            <a:off x="9918720" y="6553080"/>
            <a:ext cx="1797120" cy="18162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63" name="Picture 5" descr=""/>
          <p:cNvPicPr/>
          <p:nvPr/>
        </p:nvPicPr>
        <p:blipFill>
          <a:blip r:embed="rId3"/>
          <a:stretch/>
        </p:blipFill>
        <p:spPr>
          <a:xfrm>
            <a:off x="7912080" y="6578640"/>
            <a:ext cx="1778040" cy="17780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64" name="Picture 6" descr=""/>
          <p:cNvPicPr/>
          <p:nvPr/>
        </p:nvPicPr>
        <p:blipFill>
          <a:blip r:embed="rId4"/>
          <a:stretch/>
        </p:blipFill>
        <p:spPr>
          <a:xfrm>
            <a:off x="5956200" y="6491160"/>
            <a:ext cx="1727280" cy="21067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2976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reate your Parent Accoun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11118960" y="7191360"/>
            <a:ext cx="901440" cy="9111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67" name="Picture 3" descr=""/>
          <p:cNvPicPr/>
          <p:nvPr/>
        </p:nvPicPr>
        <p:blipFill>
          <a:blip r:embed="rId2"/>
          <a:stretch/>
        </p:blipFill>
        <p:spPr>
          <a:xfrm>
            <a:off x="9866160" y="7201080"/>
            <a:ext cx="927360" cy="9270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68" name="Picture 4" descr=""/>
          <p:cNvPicPr/>
          <p:nvPr/>
        </p:nvPicPr>
        <p:blipFill>
          <a:blip r:embed="rId3"/>
          <a:stretch/>
        </p:blipFill>
        <p:spPr>
          <a:xfrm>
            <a:off x="8618400" y="6985080"/>
            <a:ext cx="1084320" cy="13208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69" name="Mac HDD 3:Users:bsummerton:Desktop:Filing:PowerSchool for Parents Presentation.ppt_media:PowerSchool - Parent Access Setup-2.mov" descr="/Users/bsummerton/Desktop/Filing/PowerSchool for Parents Presentation.ppt_media/PowerSchool - Parent Access Setup-2.mov"/>
          <p:cNvPicPr/>
          <p:nvPr/>
        </p:nvPicPr>
        <p:blipFill>
          <a:blip r:embed="rId4"/>
          <a:stretch/>
        </p:blipFill>
        <p:spPr>
          <a:xfrm>
            <a:off x="3021120" y="1866960"/>
            <a:ext cx="9110520" cy="683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Do you have an iOS devi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19047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isit Apple’s iTunes store and download the </a:t>
            </a:r>
            <a:r>
              <a:rPr b="0" lang="en-US" sz="4200" spc="-1" strike="noStrike">
                <a:solidFill>
                  <a:srgbClr val="1664b2"/>
                </a:solidFill>
                <a:latin typeface="Gill Sans"/>
              </a:rPr>
              <a:t>PowerSchool for Parents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App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9918720" y="6553080"/>
            <a:ext cx="1797120" cy="18162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"/>
          <p:cNvPicPr/>
          <p:nvPr/>
        </p:nvPicPr>
        <p:blipFill>
          <a:blip r:embed="rId2"/>
          <a:stretch/>
        </p:blipFill>
        <p:spPr>
          <a:xfrm>
            <a:off x="9918720" y="6553080"/>
            <a:ext cx="1797120" cy="18162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74" name="Picture 5" descr=""/>
          <p:cNvPicPr/>
          <p:nvPr/>
        </p:nvPicPr>
        <p:blipFill>
          <a:blip r:embed="rId3"/>
          <a:stretch/>
        </p:blipFill>
        <p:spPr>
          <a:xfrm>
            <a:off x="7912080" y="6578640"/>
            <a:ext cx="1778040" cy="17780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75" name="Picture 6" descr=""/>
          <p:cNvPicPr/>
          <p:nvPr/>
        </p:nvPicPr>
        <p:blipFill>
          <a:blip r:embed="rId4"/>
          <a:stretch/>
        </p:blipFill>
        <p:spPr>
          <a:xfrm>
            <a:off x="5956200" y="6491160"/>
            <a:ext cx="1727280" cy="21067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Ben Summerton</cp:lastModifiedBy>
  <dcterms:modified xsi:type="dcterms:W3CDTF">2012-10-25T05:59:44Z</dcterms:modified>
  <cp:revision>2</cp:revision>
  <dc:subject/>
  <dc:title>PowerSchool Parent Portal and iOS App</dc:title>
</cp:coreProperties>
</file>